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6E5-0D17-4AEE-9546-D43D600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1BA-D294-45A3-9495-69FD1DB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FCF-A294-40CA-9C41-27B0AA13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E0E-E9E7-45A8-ACA7-4E422D6C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2DD4F-A098-4B5E-A079-45DD932D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03864-BC4A-4323-BAA9-91223371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9F109-1B61-4B79-ADFD-5C5664B8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8BA72-1469-4076-9DB9-1BC38686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21740-C5A7-47FE-81C5-A9F7FC5F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B4E6D-DF07-468E-B3F2-845F9BA8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EABFC-0C53-4E91-B289-605B37E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397-9179-4B60-B753-04160E26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13197-E913-41FD-A38E-48E1D45A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4A417-F456-423F-BC22-D0D5F14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C00E6-040F-4C26-B023-84E620E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7300E-7128-4D3B-9672-C5333468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06E8A-1F00-49B9-8B05-B8D1A652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06A-D76F-441A-B62F-156FEB25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733-A464-4DF6-ACEE-D4393734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7C3-5455-47CF-9593-94694777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9D6-BDAE-47C1-9018-42B6A473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F89-D023-4C38-BFB2-4A0B21C4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07E-32AA-483A-A61B-ACF82861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7BC-F20E-4195-A78D-44271FBB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AC5-4B33-4379-92C3-20117E816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A4D-9B46-4BBB-A3CF-1E293E210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4;&#1090;&#1088;&#1103;&#1076;" TargetMode="External"/><Relationship Id="rId4" Type="http://schemas.openxmlformats.org/officeDocument/2006/relationships/hyperlink" Target="http://ru.wikipedia.org/wiki/&#1053;&#1072;&#1089;&#1077;&#1082;&#1086;&#1084;&#1099;&#1077;" TargetMode="External"/><Relationship Id="rId5" Type="http://schemas.openxmlformats.org/officeDocument/2006/relationships/hyperlink" Target="http://ru.wikipedia.org/wiki/&#1053;&#1072;&#1076;&#1082;&#1088;&#1099;&#1083;&#1100;&#1103;" TargetMode="External"/><Relationship Id="rId6" Type="http://schemas.openxmlformats.org/officeDocument/2006/relationships/hyperlink" Target="http://ru.wikipedia.org/wiki/&#1057;&#1080;&#1089;&#1090;&#1077;&#1084;&#1072;_&#1050;&#1086;&#1084;&#1089;&#1090;&#1086;&#1082;&#1072;_&#8212;_&#1053;&#1080;&#1076;&#1077;&#1084;&#1072;" TargetMode="External"/><Relationship Id="rId7" Type="http://schemas.openxmlformats.org/officeDocument/2006/relationships/hyperlink" Target="http://ru.wikipedia.org/wiki/&#1050;&#1088;&#1099;&#1083;&#1086;_&#1085;&#1072;&#1089;&#1077;&#1082;&#1086;&#1084;&#1099;&#1093;" TargetMode="External"/><Relationship Id="rId8" Type="http://schemas.openxmlformats.org/officeDocument/2006/relationships/hyperlink" Target="http://ru.wikipedia.org/wiki/&#1055;&#1086;&#1083;&#1105;&#1090;_&#1085;&#1072;&#1089;&#1077;&#1082;&#1086;&#1084;&#1099;&#1093;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hyperlink" Target="http://images.yandex.ru/yandsearch?text=&#1082;&#1072;&#1088;&#1090;&#1080;&#1085;&#1082;&#1080;%20&#1078;&#1091;&#1082;&#1086;&#1074;%20&#1085;&#1072;&#1089;&#1077;&#1082;&#1086;&#1084;&#1099;&#1093;&amp;img_url=693437.ucoz.ru%2F_pu%2F1%2F84521981.jpg&amp;pos=5&amp;rpt=simage&amp;lr=65&amp;noreask=1" TargetMode="External"/><Relationship Id="rId12" Type="http://schemas.openxmlformats.org/officeDocument/2006/relationships/image" Target="../media/image3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mons.wikimedia.org/w/index.php?title=File:Fiddler_beetle_morphology_diagram-2.svg&amp;filetimestamp=20110405182556&amp;uselang=ru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86;&#1083;&#1085;&#1086;&#1077;_&#1087;&#1088;&#1077;&#1074;&#1088;&#1072;&#1097;&#1077;&#1085;&#1080;&#1077;" TargetMode="External"/><Relationship Id="rId3" Type="http://schemas.openxmlformats.org/officeDocument/2006/relationships/hyperlink" Target="http://ru.wikipedia.org/wiki/&#1048;&#1084;&#1072;&#1075;&#1086;" TargetMode="External"/><Relationship Id="rId4" Type="http://schemas.openxmlformats.org/officeDocument/2006/relationships/hyperlink" Target="http://ru.wikipedia.org/w/index.php?title=&#1060;&#1072;&#1081;&#1083;:Life_cycle_of_stag_beetle_RUS3.svg&amp;filetimestamp=20110613081553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/index.php?title=&#1061;&#1077;&#1084;&#1086;&#1088;&#1077;&#1094;&#1077;&#1087;&#1090;&#1086;&#1088;&#1099;&amp;action=edit&amp;redlink=1" TargetMode="External"/><Relationship Id="rId3" Type="http://schemas.openxmlformats.org/officeDocument/2006/relationships/hyperlink" Target="http://ru.wikipedia.org/w/index.php?title=&#1055;&#1072;&#1076;&#1072;&#1083;&#1100;&#1085;&#1099;&#1077;_&#1084;&#1091;&#1093;&#1080;&amp;action=edit&amp;redlink=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Жесткокрылые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, или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жуки́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лат.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 Coleoptera) —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отряд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насекомых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представители которого характеризуются видоизменением передних крыльев в твёрдые, сильно склеротизированные, либо кожистые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надкрыль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лишённые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жилковани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с сохранением перепончатых задних (нижних)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крыльев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служащих д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полёт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и в спокойном состоянии сложенных под надкрыль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3880" y="152280"/>
            <a:ext cx="5486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сткокрылые</a:t>
            </a:r>
            <a:endParaRPr b="0" i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480060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4800600" y="472428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38280" y="304920"/>
            <a:ext cx="4057920" cy="14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шнее строение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1430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228600"/>
            <a:ext cx="6629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змножение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Жесткокрылые всегда являются раздельнополыми и почти всегда яйцекладущими. Жуки относятся к насекомым с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олным превращением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. Это означает, что из яйца появляется личинка, не похожая на взрослого жука, которая в конце своего роста превращается сперва в неподвижную куколку, а затем в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имаго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 (взрослое насекомое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895480"/>
            <a:ext cx="342900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редный жук - бархатный точильщик, который распространен на территориях от южных областей европейской части России до широты Рязани, Тулы; он живет и в природе, так как переносит небольшие морозы. Достигает 7 мм, красновато-бурого цвета и не горбат. Развивается только в лиственных породах, в том числе и в твердых (дуб, ясень). Лет жуков со второй половины мая. Диаметр отверстий до 2,8 мм. Яйца самки откладывают там же, где и мебельный точильщик. Личинки выносят зиму до -15°С и достигают 7 мм. Их экскременты темнее цвета древесины - буроватые. Развитие бархатного точильщика длится до 6 лет. Его не выморозишь и можно вытравить только бромметилом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5120" y="0"/>
            <a:ext cx="5105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м вредны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3657600"/>
            <a:ext cx="25909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81080" y="304920"/>
            <a:ext cx="4876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м  полезны</a:t>
            </a:r>
            <a:endParaRPr b="0" i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2590920"/>
            <a:ext cx="3771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ук-могильщик</a:t>
            </a:r>
            <a:endParaRPr b="0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962520"/>
            <a:ext cx="82296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итаются жуки-могильщики падалью. Благодаря развитым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хеморецепторам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на концах усиков, они издалека чуют падаль и способны слетаться к ней за сотни метров. Самец и самка вдвоем закапывают найденную падаль (обычного это труп мелкого млекопитающего или птицы), выгребая из-под нее землю; тем самым они прячут ее от других падальщиков (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адальных мух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и жуков). Закапывание также предохраняет труп от пересыхания в период, когда им питаются личинки. При рыхлой почве зарывание происходит очень быстро, за несколько час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Картинки"/>
          <p:cNvPicPr/>
          <p:nvPr/>
        </p:nvPicPr>
        <p:blipFill>
          <a:blip r:embed="rId4"/>
          <a:stretch/>
        </p:blipFill>
        <p:spPr>
          <a:xfrm>
            <a:off x="5715000" y="2209680"/>
            <a:ext cx="28195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ьцова марина</cp:lastModifiedBy>
  <dcterms:modified xsi:type="dcterms:W3CDTF">2012-11-21T11:00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